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267-FEEE-43B6-84F1-E51E659B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134-0A23-4409-9419-334DBB7B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87E-1A51-4E43-B584-B5C7A8B9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B2D-AC50-4789-96A6-2E07DB6B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7D0-3543-4125-ADDA-47AC7F24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B78-6831-4055-B8A5-93E76910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446-2634-45CC-9773-D84BB233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B7F-C5AF-437B-B730-AB452C24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713-4F69-4D40-B07E-42CC5354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A9A-B138-412C-A80F-E13C998C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F01-193C-4861-B870-38DCC601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876-B6AE-4CB6-AAD6-5D596607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68CE-BEB7-4DF8-B28C-0E6E85F00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472360" cy="4381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20951400">
            <a:off x="241920" y="1909800"/>
            <a:ext cx="502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French Script MT"/>
              </a:rPr>
              <a:t>Qué lindo fue conocerte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48360" y="616572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radley Hand ITC"/>
              </a:rPr>
              <a:t>Anabella ´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7T00:51:03Z</dcterms:created>
  <dc:creator>Anabella</dc:creator>
  <dc:description/>
  <dc:language>en-US</dc:language>
  <cp:lastModifiedBy>Anabella</cp:lastModifiedBy>
  <dcterms:modified xsi:type="dcterms:W3CDTF">2009-06-17T01:05:26Z</dcterms:modified>
  <cp:revision>2</cp:revision>
  <dc:subject/>
  <dc:title>Diapositiva 1</dc:title>
</cp:coreProperties>
</file>