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A155-1A4F-491B-974B-D67999967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B895-6A3C-4746-B18A-E96BCA59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5F62-0862-49DE-9577-8606568D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6FD5-AD7A-4C1C-A532-FE18A618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C9AD-0AB9-4EC4-8281-071C69EB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785D-2D02-4034-9A4B-BBB245A5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9CB4-3160-4597-A73C-B121E98D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0AAE-54FA-4F44-B2EC-901D788C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E53D-0B9E-4D25-B91A-F35AC6EA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6326-59A3-4363-8D58-5FD27A8E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862E-18FD-485F-98C4-8F3B89EB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5991-352E-431E-AC25-1DFA7E09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451F-E9C7-4B89-B87E-1F4CB9B5E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5472360" cy="4381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rot="20951400">
            <a:off x="241920" y="1909800"/>
            <a:ext cx="5027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French Script MT"/>
              </a:rPr>
              <a:t>Qué lindo fue conocerte!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948360" y="6165720"/>
            <a:ext cx="20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Bradley Hand ITC"/>
              </a:rPr>
              <a:t>Anabella ´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7T00:51:03Z</dcterms:created>
  <dc:creator>Anabella</dc:creator>
  <dc:description/>
  <dc:language>en-US</dc:language>
  <cp:lastModifiedBy>Anabella</cp:lastModifiedBy>
  <dcterms:modified xsi:type="dcterms:W3CDTF">2009-06-17T01:05:26Z</dcterms:modified>
  <cp:revision>2</cp:revision>
  <dc:subject/>
  <dc:title>Diapositiva 1</dc:title>
</cp:coreProperties>
</file>